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976-716A-4A7A-B640-28FA5F88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34E-AFDA-491A-B0B2-05813DAF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556-9330-4BDE-8545-6670643B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F5E-DEB2-4ED5-9283-9BCF4B10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CD7-DEFA-456F-89EB-95EC904A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E4E-99F1-4C55-BD98-72AE6897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B9E-B10B-49C7-963E-135E13FA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D23-4269-4A5F-8379-24510277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D8A-E6DC-41AE-8B85-CE18ECE4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FC0-A736-4D04-BCDF-A23AEEA5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5A1-664F-42A8-A5E1-3ADF1F48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7B2-FC0F-4F4C-89A9-DE97FD4B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88F5-A5DF-4942-BAD2-860076A97D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Charge of the Light Brig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lfred, Lord Tenny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341360"/>
            <a:ext cx="2241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ight brig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aval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ea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ismay’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ab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onder’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ss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under’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11280" y="1341360"/>
            <a:ext cx="6275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any of soldiers using light weapon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ldiers on horse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bout 3 m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p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valry s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mired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avy artillery/gu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ople from Russia, Ukraine and Siberia famed for their horseman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rn a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41300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actyl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actylic di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59280" y="1413000"/>
            <a:ext cx="56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ythm and pace of a po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ne stressed syllable followed by two unstressed syllables in poetic me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wo feet in a line of poetry, with each foot consisting of a dactyl (see abo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lliter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yperbo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naph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nomatopoe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hetorical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ated use of the same consonant in a phrase or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ggeration for dramatic or emphatic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tition of word or phrase at the beginning of successive li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ds that sound like their mean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question posed without any expectation of getting an ans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tis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ropaga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enso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84000" y="1600200"/>
            <a:ext cx="64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king one side in a conflict or arg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ne-sided, bi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iased or misleading information put out by governments to publicise or promote a political cause or point of vie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ficial examination of reports, texts, films, etc., possibly resulting in suppression of parts considered unaccep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7:00:11Z</dcterms:modified>
  <cp:revision>39</cp:revision>
  <dc:subject/>
  <dc:title>La Belle Dame Sans Merci</dc:title>
</cp:coreProperties>
</file>